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45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3886200" y="8686440"/>
            <a:ext cx="29671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E1FCAB-2C37-48C4-86D0-28B5A178F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A09A5F-6C1B-4F68-AFAA-35DEF3008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C59B2-A4BA-47B0-B620-92EC094E1F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A52F7-7930-49CD-9ACC-B5C814D644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EEE07-8C32-4719-9394-D16ABBB62E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78192-4333-4283-A746-7A1F3BCE8C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8DB94-C587-4D8C-93C7-330E304BA1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85758-3C5B-44DF-90A5-DC0463E807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DFC3B-4B66-41F1-818B-B5D1FB8704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7F73F-6F73-43DC-9500-4EE7B3E9E0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22BD5-F7A1-4AD3-8E7A-C08DB7F44C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4BC65-87B8-47E8-BE80-372FC8D9B4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739A7-ADAD-4904-B7DA-C8EAAB0032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35659-0108-4011-B95F-F00704881A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308640"/>
            <a:ext cx="21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FF0753-6BCE-4F28-965A-9B1EB99B66B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CT 333: Imagining the Audience in a Wired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lass 5: A Few More Principles/Cognitive Psychology In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nctions of Eng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ty - authenticity, cohe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aptivity - change, person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rrative - not just product but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mersion - feeling of wholeness, transportation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ow - clear, fluid, seamless use and transitions among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t Elements of Cognitive Psych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ory (sensory, working and long-ter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all and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stalt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ntal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ion and persua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mory is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ex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ive/Add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ing/Short-Te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rt term storage - 30 se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hearsal and repetition - visual and spa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unking” - mnemonics and relations help memoriz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ng-Te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ar unlimited 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tered - most working memory is dum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ational - we remember things in context and connection - whether the connections make sense or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modal and com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all and Recog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all - specific “bits” and their retri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gnition - relational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mans are not good at recall, excellent at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uters are not good at recognition, excellent at re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g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ing memory - decay and dis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ng-term – changes i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roactive (new information corrupts connections to ol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active (previous information confounds absorption of ne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romised networks (e.g., neurological disord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t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sential to human activity - a lot of “human error” can be traced to inappropriate or unfocused at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ke memory, complex as well, influenced by many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rolled vs. Automa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rolled - focused but limited, slow but thorough, hard to sustain for long periods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tomatic - fast, allows for multitasking, nearly subconscious - but also vague and sporad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ntral/peripheral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tors influencing att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gi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tal/physical work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ess and fru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eting things to atten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 pres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mini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s on first assignment up on wiki – some discussion and examples in lab tonigh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 We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uing on cognitive psychology and Design - Ch. 5, 6, 1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princi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es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ep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g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cess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sive/universal design principles to address ex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ying ability is the norm, not the exce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s for people with disabilities work for others t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sonal user experience is affected by design constraints and cho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les of Universal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qu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ce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le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ort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st right” size and space (p. 5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cessibility Decision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hard to design everything for everyone - how to dec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ed/changing - is difference innate and immutable, or lear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/rare - is difference a reasonably common occurr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ap/Expensive - what is the cost of accommod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cep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s of product acceptability/adoption – strongly influenced by the right mix of 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ght balance more complex than most designers or businesspeople care to admit – many factors unknown or unknow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tors influencing Accep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tical - trust, organizational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twork effects – social diffusion of innovations, hubs/links se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nience – sufficiently easy, effortl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ltural or social habits – violation and/or evolution of social n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fulness - relevance to activities in contex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conomic - price points, changes in business mode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ion of bond, attachment - a feeling of personal relationship, even anthropomorphism (examples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 of both aesthetics and us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8:38:27Z</dcterms:created>
  <dc:creator/>
  <dc:description/>
  <dc:language>en-US</dc:language>
  <cp:lastModifiedBy>Sheridan College</cp:lastModifiedBy>
  <dcterms:modified xsi:type="dcterms:W3CDTF">2009-01-26T20:05:56Z</dcterms:modified>
  <cp:revision>19</cp:revision>
  <dc:subject/>
  <dc:title>CCT 333: Imagining the Audience in a Wired World</dc:title>
</cp:coreProperties>
</file>